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88997-6206-4FEF-8B85-3BBEA0D810D1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692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0955-54CA-460B-A78D-8E46643D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206-1F1D-49C3-B65C-1D655DDD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1594-A165-424D-8930-F9BDA1FD5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DC3F-D616-4831-B546-0B94F29B4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7D61-5B40-427B-9A6B-57D3A35B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6E5-F08B-4E6F-8FFA-3AFA2FA9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A311-E813-4F0D-A30E-73682373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1B1-97E4-41B7-856E-CE5B3C91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80800"/>
            <a:ext cx="9069480" cy="602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417-2322-4BF5-9EC0-CFC7650C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0C95-6EF3-41CA-8A3F-C02B4AF6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3A45-BA33-4570-BF52-1323C5D7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F09-6A32-4A99-A6D3-55082A11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80800"/>
            <a:ext cx="9069480" cy="129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1840" indent="-2854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129384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1725480" indent="-2142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2157480" indent="-2160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52E90-1594-49B6-81A3-D40F6EA182D7}" type="slidenum">
              <a:rPr b="0" lang="en-GB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729720"/>
            <a:ext cx="9072360" cy="19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Politica e bene comun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Fiscalità e cooperazione internazional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uigino Bruni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Univ. Milano-Bicocca, Facoltà di Economi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Roma, 20-21 giugno 2008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l patto al contratto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alla natura tridimensionale della fiscalità, a quella unidimensionale (contratto)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==&gt; grande difficoltà di far comprendere la tassazione per redistribuzione e per il sostegno dei beni meritori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==&gt; Le politiche fiscali per la famiglia non possono essere capite in un tale contesto culturale “ad una sola dimensione”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Fisco e famigli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502920" y="1414080"/>
            <a:ext cx="9072360" cy="57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Prima di qualunque richiesta “concessoria” per la famiglia, il primo passo è leggere la fiscalità della e per la famiglia non primariamente come un contratto, né come redistribuzione, ma vedere la famiglia come “bene meritorio”. Per quali ragioni?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a) la famiglia “produce ricchezza” nel campo del consumo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b) la famiglia produce una importante forma di capitale: quello relazional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c) la famiglia è luogo di felicità, e quindi di produzione e di crescita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Non solo famiglia ..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502920" y="1655280"/>
            <a:ext cx="907236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Una visione della fiscalità alla luce del Bene Comune, deve estendersi ad altri ambiti cruciali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1. Una forte tassazione di beni inquinanti e forte impatto ambientali, che oggi vanno considerati “demerit goods”, esattamente come alchol e fumo;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2. Una forte incentivazione di beni meritori sociale e relazionali, dall'impresa civile al volontariato “vero”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3. incentivare (premiare) la gratuità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La cooperazione int.l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premessa di ogni politica di Bene Comune è guardare al mondo come ad una comunità umana, nella quale nessun uomo/donna mi è estraneo/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dalla nazione al mondo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ell'era della globalizzazione la logica tridimensionale della fiscalità non va solo recuperata a livello Paese, ma estesa su scala mondial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Cooperazione come reciprocità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Una cooperazione che non sia paternalismo e assistenzialismo, deve recuperare la dimensione della reciprocità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- vedere chi riceve non come un “povero” ma come un soggetto capace di dono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- senza stima non c'è sviluppo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o sviluppo è reciprocità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26520"/>
            <a:ext cx="90709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Conclusion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502920" y="1266840"/>
            <a:ext cx="9070920" cy="59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politica del Bene Comune oggi ha molto da dire alle sfide dell'oggi: la carestia che è alle porte del nostro occidente opulento è carestia di gratuità, di sobrietà, di beni relazionali, di felicità, una carestia cui è legata anche la carestia di cibo e di diritti che vive l'altra parte del Mondo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Un umanesimo a più dimensioni, del patto, del contratto della philia e dell'agape, e il grande dono che la tradizione cristiana del Bene Comune può fare alle donne e agli uomini di oggi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26520"/>
            <a:ext cx="9070920" cy="121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Bibliografi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. Bruni, La ferita dell'altro, Il margine, 2007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R. Esposito, Communitas, Einaudi, 1998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S. Zamagni, L'economia del bene comune, Città Nuova, 2007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Bene Comune e beni comuni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tradizione classica e cristiana del bene comune si fonda sull'idea che la società sia un corpo, un “noi”: siamo legati gli uni altri da u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DejaVu Sans"/>
              </a:rPr>
              <a:t>patto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che è ben più di un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DejaVu Sans"/>
              </a:rPr>
              <a:t>contratto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modernità, in particolare l'economia moderna, ha abbandonato di fatto l'idea di bene comune per i beni comuni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Bene Comun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l bene comune è una realtà personalista e comunitaria: riguarda primariamente i rapporti tra persone, mediati dai beni (cose)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l primo bene è il bene relazionale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categoria fondativa è il “patto” o la categoria biblica di Alleanz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l patto è anche contratto, ma anche philia e agape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I beni comuni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Il bene comune che la scienza economica ha in mente si basa sulla mutua indifferenza e sull'assenza di interferenze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è un concetto individualista, dove la struttura base è un rapporto “individuo-bene”, e non rapporto interpersonale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categoria fondativa è quella del </a:t>
            </a: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contratto (da Hobbes a Ralws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ussidiarietà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2920" y="946080"/>
            <a:ext cx="9072360" cy="664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'idea di sussidiarietà è essenziale per la tradizione del Bene comune, che va primariamente declinata come sussidiarietà tra principi della vita in comune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on faccia il contratto ciò che può fare l'amicizia (philia), e l'amicizia ciò che può fare l'agape. Oppure, in termini più positivi: il contratto e la philia contribuiscono effettivamente al bene comune quando aiutano (sussidiano) l'esperienza dell'agape-reciprocità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ecco perché la politica è forma alta di agape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Sussidiarietà all'incontrario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scienza economica moderna nasce con un umanesimo di “sussidiarietà all'incontrario”: non faccia l'amore ciò che può fare il contratto (da A. Smith in poi)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Bene comune e communita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Non c'è bene comune senza comunità, senza cum-munu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modernità tende a trasformare il Bene comune in bene immune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communitas ==&gt; immunita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communitas, luogo di ferita e benedizione, viene sterilizzata dal contratto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bene comune e fiscalità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All'interno della tradizione del Bene comune, alla fiscalità sono assegnati tre compiti principali: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1) realizzazione dei </a:t>
            </a: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beni pubblici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2) </a:t>
            </a: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redistribuzione 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di ricchezz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3) incoraggiare (sussidiando) la creazione di </a:t>
            </a: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beni meritori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 e scoraggiare (tassando) i</a:t>
            </a:r>
            <a:r>
              <a:rPr b="1" lang="en-GB" sz="3200" spc="-1" strike="noStrike">
                <a:solidFill>
                  <a:srgbClr val="000000"/>
                </a:solidFill>
                <a:latin typeface="DejaVu Sans"/>
              </a:rPr>
              <a:t> beni demeritori</a:t>
            </a: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DejaVu Sans"/>
              </a:rPr>
              <a:t>La fiscalità oggi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502920" y="1417320"/>
            <a:ext cx="9072360" cy="56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grande tendenza in atto oggi è il riduzionismo dei tre compiti classici della tassazione ad uno solo: la produzione di beni pubblici.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La fiscalità è vista solo all'interno della logica del contratto: pago per avere servizi che sono per natura pubblici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DejaVu Sans"/>
              </a:rPr>
              <a:t>Al tempo stesso, è in atto una forte tendenza a trasformare i beni pubblici in beni privati (per ridurre i tipici problemi di “fallimento” dei beni pubblici)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-</cp:lastModifiedBy>
  <dcterms:modified xsi:type="dcterms:W3CDTF">2008-06-23T08:26:09Z</dcterms:modified>
  <cp:revision>1</cp:revision>
  <dc:subject/>
  <dc:title>Politica e bene comune Fiscalità e cooperazione internazionale</dc:title>
</cp:coreProperties>
</file>