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0D3CD-C435-4EF1-AC9A-F6DA3D26BA2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885-0525-413D-96F0-EEEE7577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84B-1DCE-44D4-B89D-8405BDD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4B6-E629-4585-8646-3D33FE3E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CBA-C7CE-4410-8FBD-BC8A65FD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D03-013A-4BED-AA96-FFC59BD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106-3E46-476C-A053-0D8A6D0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9CB-2D44-4272-85F2-D7C092C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147-A742-43A8-98B4-897B5BF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0800"/>
            <a:ext cx="906948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23E-D163-435D-85B1-9AAA3B3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EB3-1593-4CEB-8FD2-302B7B4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37D-FCE0-4175-88BC-6D65DC7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694-D8A2-4DBC-951D-6A3C507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1D92-D640-4940-AF96-B81A0A4DF4A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9720"/>
            <a:ext cx="9072360" cy="19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Politica e bene comu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Fiscalità e cooperazione internazional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uigino Brun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iv. Milano-Bicocca, Facoltà di Economi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Roma, 20-21 giugno 200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l patto al contratt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lla natura tridimensionale della fiscalità, a quella unidimensionale (contratto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=&gt; grande difficoltà di far comprendere la tassazione per redistribuzione e per il sostegno dei beni meritor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=&gt; Le politiche fiscali per la famiglia non possono essere capite in un tale contesto culturale “ad una sola dimensione”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Fisco e famigli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236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rima di qualunque richiesta “concessoria” per la famiglia, il primo passo è leggere la fiscalità della e per la famiglia non primariamente come un contratto, né come redistribuzione, ma vedere la famiglia come “bene meritorio”. Per quali ragioni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) la famiglia “produce ricchezza” nel campo del consum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b) la famiglia produce una importante forma di capitale: quello relazional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) la famiglia è luogo di felicità, e quindi di produzione e di crescit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Non solo famiglia 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236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a visione della fiscalità alla luce del Bene Comune, deve estendersi ad altri ambiti cruciali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. Una forte tassazione di beni inquinanti e forte impatto ambientali, che oggi vanno considerati “demerit goods”, esattamente come alchol e fumo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2. Una forte incentivazione di beni meritori sociale e relazionali, dall'impresa civile al volontariato “vero”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. incentivare (premiare) la gratuità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La cooperazione int.l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premessa di ogni politica di Bene Comune è guardare al mondo come ad una comunità umana, nella quale nessun uomo/donna mi è estraneo/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lla nazione al mond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ll'era della globalizzazione la logica tridimensionale della fiscalità non va solo recuperata a livello Paese, ma estesa su scala mondial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Cooperazione come reciproci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a cooperazione che non sia paternalismo e assistenzialismo, deve recuperare la dimensione della reciprocità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- vedere chi riceve non come un “povero” ma come un soggetto capace di don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- senza stima non c'è svilupp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o sviluppo è reciprocità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26520"/>
            <a:ext cx="9070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Conclusion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266840"/>
            <a:ext cx="907092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politica del Bene Comune oggi ha molto da dire alle sfide dell'oggi: la carestia che è alle porte del nostro occidente opulento è carestia di gratuità, di sobrietà, di beni relazionali, di felicità, una carestia cui è legata anche la carestia di cibo e di diritti che vive l'altra parte del Mondo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 umanesimo a più dimensioni, del patto, del contratto della philia e dell'agape, e il grande dono che la tradizione cristiana del Bene Comune può fare alle donne e agli uomini di oggi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26520"/>
            <a:ext cx="9070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. Bruni, La ferita dell'altro, Il margine, 2007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R. Esposito, Communitas, Einaudi, 1998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. Zamagni, L'economia del bene comune, Città Nuova, 2007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beni comun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tradizione classica e cristiana del bene comune si fonda sull'idea che la società sia un corpo, un “noi”: siamo legati gli uni altri da u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DejaVu Sans"/>
              </a:rPr>
              <a:t>patto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che è ben più di u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DejaVu Sans"/>
              </a:rPr>
              <a:t>contratto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modernità, in particolare l'economia moderna, ha abbandonato di fatto l'idea di bene comune per i beni comun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bene comune è una realtà personalista e comunitaria: riguarda primariamente i rapporti tra persone, mediati dai beni (cose)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primo bene è il bene relaziona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ategoria fondativa è il “patto” o la categoria biblica di Alleanz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patto è anche contratto, ma anche philia e agap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 beni comun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bene comune che la scienza economica ha in mente si basa sulla mutua indifferenza e sull'assenza di interferenz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è un concetto individualista, dove la struttura base è un rapporto “individuo-bene”, e non rapporto interpersona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ategoria fondativa è quella del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contratto (da Hobbes a Ralws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ussidiarie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946080"/>
            <a:ext cx="9072360" cy="66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'idea di sussidiarietà è essenziale per la tradizione del Bene comune, che va primariamente declinata come sussidiarietà tra principi della vita in comun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on faccia il contratto ciò che può fare l'amicizia (philia), e l'amicizia ciò che può fare l'agape. Oppure, in termini più positivi: il contratto e la philia contribuiscono effettivamente al bene comune quando aiutano (sussidiano) l'esperienza dell'agape-reciprocità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ecco perché la politica è forma alta di agap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ussidiarietà all'incontrari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scienza economica moderna nasce con un umanesimo di “sussidiarietà all'incontrario”: non faccia l'amore ciò che può fare il contratto (da A. Smith in poi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communita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on c'è bene comune senza comunità, senza cum-mun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modernità tende a trasformare il Bene comune in bene immun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ommunitas ==&gt; immunita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ommunitas, luogo di ferita e benedizione, viene sterilizzata dal contratto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fiscali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l'interno della tradizione del Bene comune, alla fiscalità sono assegnati tre compiti principali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) realizzazione dei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beni pubblic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2)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redistribuzione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i ricchezz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) incoraggiare (sussidiando) la creazione di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beni meritori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e scoraggiare (tassando) i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 beni demeritori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La fiscalità ogg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417320"/>
            <a:ext cx="9072360" cy="56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grande tendenza in atto oggi è il riduzionismo dei tre compiti classici della tassazione ad uno solo: la produzione di beni pubblici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fiscalità è vista solo all'interno della logica del contratto: pago per avere servizi che sono per natura pubblici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 tempo stesso, è in atto una forte tendenza a trasformare i beni pubblici in beni privati (per ridurre i tipici problemi di “fallimento” dei beni pubblici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08-06-23T08:26:09Z</dcterms:modified>
  <cp:revision>1</cp:revision>
  <dc:subject/>
  <dc:title>Politica e bene comune Fiscalità e cooperazione internazionale</dc:title>
</cp:coreProperties>
</file>